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076A-162D-4ED8-8613-FC7551913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DC4B-4B59-46FD-8784-A3100E89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D347-0EFC-4D1A-A90A-9EAADE0EB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1B97-1F3C-48E8-A3E3-3EB23E0DB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040D-7272-416C-82F5-93401124A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5CCC-11EF-42DB-854D-5A1ED68E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11D4-D3A9-40EE-8E4C-95374D0A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D088-DBB6-45C6-80F5-BF485571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6C07-2C8D-4BC0-947B-65F31822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C3BE-8763-4D7B-9C2A-7256A913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60E8-8029-433E-B62D-81AA64CC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B6E3-AEA5-4F9B-8C8C-E28983BD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31B99-5D94-4663-9A6C-EEC8BD98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82D5-2AC2-424D-AB93-12939097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0E8F-B908-4DD2-83B8-67119867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F638-DE29-4D77-81C3-E2A35F400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7DA9-6CFA-4D36-97FF-055B09329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B729-58AA-4553-A721-5F1D1A7C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AA0B-6FB5-4EC0-B252-DC54FC0F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3DEA-64DD-4B17-BB4F-FB60DDAE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7BB7-AFDE-404F-8706-F2BE90D6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4195-5656-4B5C-BA5A-51A8C40D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FB62-2A4C-42DF-9638-DF1805F8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6C8D-8601-40AC-BEA8-1376A651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B025-6166-434A-91E6-97ED0A41685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99F1-8610-4DAA-97BD-CCB599D3A4B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Nanking_Massacre/" TargetMode="External"/><Relationship Id="rId2" Type="http://schemas.openxmlformats.org/officeDocument/2006/relationships/hyperlink" Target="http://www.historyplace.com/worldhistory/genocide/nanking.htm" TargetMode="External"/><Relationship Id="rId3" Type="http://schemas.openxmlformats.org/officeDocument/2006/relationships/hyperlink" Target="http://www.nanking-massacre.com/RAPE_OF_NANKING_OR_NANJING_MASSACRE_1937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he Rape of Nanking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Brooke Moon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iod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r. Hartl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it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December of 1937, the Japanese Imperial Army marched into China's capital city of Nanking and proceeded to murder 300,000 out of 600,000 civilians and soldiers in the cit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ix weeks of carnage would become known as the Rape of Nank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ingle worst atrocity during the World War II era in either the European or Pacific theaters of wa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portan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aving already captured China's Manchurian region (1931) and Jehol province (1933), the Japanese were waiting for a pretext to invade and occupy the whole of China.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n July 1937, the tensions between Chinese troops and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Japanese troops engaged in military exercises on occupied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hinese territory made an exchange of firing near Peking (now Beijing)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e Japanese used this incident as an excuse to wage all out war against chin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5800" y="4191120"/>
            <a:ext cx="1757520" cy="2200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666880" y="41148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raining new Soldi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90920" y="57150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http://www.nanking-massacre.com/RAPE_OF_NANKING_OR_NANJING_MASSACRE_1937.htm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419720" y="4114800"/>
            <a:ext cx="2762280" cy="1913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467480" y="426708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actice kill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15200" y="495288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http://www.nanking-massacre.com/RAPE_OF_NANKING_OR_NANJING_MASSACRE_1937.htm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hoto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ead Babi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2971800" cy="1860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0880" y="388620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http://listverse.files.wordpress.com/2008/08/nanking-massacre-rape-of-nanking-killing-children.jp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2590560" cy="2438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934320" y="18288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any people were killed at downtow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34320" y="2895480"/>
            <a:ext cx="167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http://www.nanking-massacre.com/RAPE_OF_NANKING_OR_NANJING_MASSACRE_1937.htm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33520" y="4419720"/>
            <a:ext cx="2361960" cy="1863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895480" y="441972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any killed bodi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502920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http://www.nanking-massacre.com/RAPE_OF_NANKING_OR_NANJING_MASSACRE_1937.htm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4876920" y="4498920"/>
            <a:ext cx="1981080" cy="1879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858000" y="44956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Burying people al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53341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http://www.history.ucsb.edu/faculty/marcuse/classes/133p/133p04papers/133p04papimg/NanjingBuriedAlive400pxh.jp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ttle Detail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ppened in a period of 6 wee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International Military Tribunal of the far east estimate 260,000 casual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er 4 days of fighting Japanese troops invaded into the city of December 13, 193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800" y="-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00" y="-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" y="4648320"/>
            <a:ext cx="1700280" cy="2057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14600" y="464832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acticing Kill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14600" y="6095880"/>
            <a:ext cx="25146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http://www.metroactive.com/papers/metro/12.12.96/gifs/china2-9650.jp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they di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Japanese forced Chinese men to rape their own daughters, sons to rape their mothers, and brothers their sisters, while the rest of the family was made to wat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egnant women were raped than had there stomach slit open and they torn out the fetus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ld women over the age of 70 as well as girls under 8 were sexually abus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re than 20,000-80,000 females were ganged raped by Japanese soldiers than stabbed to death with bayone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Japanese forced the Chinese to bury each other alive in the dir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ibliograph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en.wikipedia.org/wiki/Nanking_Massacre\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http://www.historyplace.com/worldhistory/genocide/nanking.h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http://www.nanking-massacre.com/RAPE_OF_NANKING_OR_NANJING_MASSACRE_1937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8:56:16Z</dcterms:created>
  <dc:creator>12206</dc:creator>
  <dc:description/>
  <dc:language>en-US</dc:language>
  <cp:lastModifiedBy>12206</cp:lastModifiedBy>
  <dcterms:modified xsi:type="dcterms:W3CDTF">2009-12-14T19:08:05Z</dcterms:modified>
  <cp:revision>5</cp:revision>
  <dc:subject/>
  <dc:title>Slide 1</dc:title>
</cp:coreProperties>
</file>